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C960D-66E0-4D80-BE86-FCACF0DE2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0DCB-E071-40F6-A99F-B53F56CA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E66DB-4223-4E6D-9A90-5FCEF31AC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F794-0F88-4195-83C7-3D3DD6A9B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DE069-61BA-461A-B451-80A1521E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F640A-1B07-4950-85A3-EC54E9DD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2DF21-C931-4F72-A846-8002CC38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D3B9-3B20-4759-BAE4-6F6487C31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B727B-DDE3-4C7F-845B-C39DC9712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4BB2-E513-4232-93F0-B280E9B5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69B1-E78E-48A0-8BB4-31C3E329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553D-FEFE-4696-94B4-E9E425550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63D0-77CF-441C-A9C3-CC8DD5E6D71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B1D5-5401-4B5A-8FDD-A2E0F7C46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goal of reading is </a:t>
            </a:r>
            <a:r>
              <a:rPr b="0" i="1" lang="en-US" sz="4400" spc="-1" strike="noStrike">
                <a:solidFill>
                  <a:srgbClr val="000000"/>
                </a:solidFill>
                <a:latin typeface="Times New Roman"/>
                <a:ea typeface="Times New Roman"/>
              </a:rPr>
              <a:t>comprehension</a:t>
            </a:r>
            <a:r>
              <a:rPr b="0" lang="en-US" sz="4400" spc="-1" strike="noStrike">
                <a:solidFill>
                  <a:srgbClr val="000000"/>
                </a:solidFill>
                <a:latin typeface="Times New Roman"/>
                <a:ea typeface="Times New Roman"/>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rehension is a complex,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bstract activit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ylene Beers, </a:t>
            </a:r>
            <a:r>
              <a:rPr b="0" i="1" lang="en-US" sz="2400" spc="-1" strike="noStrike">
                <a:solidFill>
                  <a:srgbClr val="000000"/>
                </a:solidFill>
                <a:latin typeface="Times New Roman"/>
                <a:ea typeface="Times New Roman"/>
              </a:rPr>
              <a:t>When Kids Can’t Read, What Teachers Can Do</a:t>
            </a:r>
            <a:r>
              <a:rPr b="0" lang="en-US" sz="2400" spc="-1" strike="noStrike">
                <a:solidFill>
                  <a:srgbClr val="000000"/>
                </a:solidFill>
                <a:latin typeface="Times New Roman"/>
                <a:ea typeface="Times New Roman"/>
              </a:rPr>
              <a:t>, p.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Reading is a creative activity.</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deleine L’Eng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To read without reflecting is like eating without digesting.</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2">
                                            <p:txEl>
                                              <p:pRg st="2" end="2"/>
                                            </p:txEl>
                                          </p:spTgt>
                                        </p:tgtEl>
                                        <p:attrNameLst>
                                          <p:attrName>style.visibility</p:attrName>
                                        </p:attrNameLst>
                                      </p:cBhvr>
                                      <p:to>
                                        <p:strVal val="visible"/>
                                      </p:to>
                                    </p:set>
                                    <p:anim calcmode="lin" valueType="num">
                                      <p:cBhvr additive="base">
                                        <p:cTn id="4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rehension</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Reading is a social process, an interactive activity, one in which readers create meaning through transactions—interactions—with the text, their prior knowledge, the context, and other reader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lang="en-US" sz="2400" spc="-1" strike="noStrike">
                <a:solidFill>
                  <a:srgbClr val="000000"/>
                </a:solidFill>
                <a:latin typeface="Times New Roman"/>
              </a:rPr>
              <a:t>Kylene Beers, p.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Good Readers Do</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at reading is a meaning-making proc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ety of comprehension strategies (predict, summarize, question, visualize, et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range of inferen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ior knowled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their understanding of the tex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the author’s purpose and point of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Good Readers Do</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ext features (headings, bold, italics, charts, graph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ir engagement and enjoy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meanings and use context clues, root words, affix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most words automatically, read fluently, vary their reading rate, and “hear” the text as they 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ior knowledge is the main determinant of comprehension.</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 calcmode="lin" valueType="num">
                                      <p:cBhvr additive="base">
                                        <p:cTn id="5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rehension</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Reading is a complex, purposeful, social and cognitive process in which readers simultaneously use their knowledge of spoken and written language, their knowledge of the topic of the text, and their knowledge of their culture to construct meaning.</a:t>
            </a:r>
            <a:endParaRPr b="0" lang="en-US" sz="3200" spc="-1" strike="noStrike">
              <a:solidFill>
                <a:srgbClr val="000000"/>
              </a:solidFill>
              <a:latin typeface="Calibri"/>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all to Action: “What We Know About Adolescent Literacy and Ways to Support Teachers in Meeting Students’ Needs,” NC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dure</a:t>
            </a:r>
            <a:endParaRPr b="0" lang="en-US" sz="4400" spc="-1" strike="noStrike">
              <a:solidFill>
                <a:srgbClr val="000000"/>
              </a:solidFill>
              <a:latin typeface="Calibri"/>
            </a:endParaRPr>
          </a:p>
        </p:txBody>
      </p:sp>
      <p:sp>
        <p:nvSpPr>
          <p:cNvPr id="74"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cedure is actually quite simple. First you arrange things into different groups depending on their makeup. Of course, one pile may be sufficient depending on how much there is to do. If you have to go somewhere else due to lack of facilities that is the next step; otherwise you are pretty well set. It is important not to overdo any particular endeavor. That is, it is better to do too few things at once than too many. In the short run this may not seem important, but complications from doing too many can easily arise. A mistake can be expensive as well. The manipulation of the appropriate mechanisms should be self-explanatory, and we need not dwell on it here. At first the whole procedure will seem complicated. Soon, however, it will become just another facet of life. It is difficult to foresee any end to the necessity for this task in the immediate future, but then one can never tell.</a:t>
            </a:r>
            <a:endParaRPr b="0" lang="en-US" sz="2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John D. Bransford and Nancy S. McCarrell, “A Sketch of a Cognitive Approach to Comprehens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ing Laundry</a:t>
            </a:r>
            <a:endParaRPr b="0" lang="en-US" sz="4400" spc="-1" strike="noStrike">
              <a:solidFill>
                <a:srgbClr val="000000"/>
              </a:solidFill>
              <a:latin typeface="Calibri"/>
            </a:endParaRPr>
          </a:p>
        </p:txBody>
      </p:sp>
      <p:sp>
        <p:nvSpPr>
          <p:cNvPr id="7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cedure is actually quite simple. First you arrange things into different groups depending on their makeup. Of course, one pile may be sufficient depending on how much there is to do. If you have to go somewhere else due to lack of facilities that is the next step; otherwise you are pretty well set. It is important not to overdo any particular endeavor. That is, it is better to do too few things at once than too many. In the short run this may not seem important, but complications from doing too many can easily arise. A mistake can be expensive as well. The manipulation of the appropriate mechanisms should be self-explanatory, and we need not dwell on it here. At first the whole procedure will seem complicated. Soon, however, it will become just another facet of life. It is difficult to foresee any end to the necessity for this task in the immediate future, but then one can never tel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ior knowledge is the main determinant of comprehen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 staged and recursive process.</a:t>
            </a: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8">
                                            <p:txEl>
                                              <p:pRg st="4" end="4"/>
                                            </p:txEl>
                                          </p:spTgt>
                                        </p:tgtEl>
                                        <p:attrNameLst>
                                          <p:attrName>style.visibility</p:attrName>
                                        </p:attrNameLst>
                                      </p:cBhvr>
                                      <p:to>
                                        <p:strVal val="visible"/>
                                      </p:to>
                                    </p:set>
                                    <p:anim calcmode="lin" valueType="num">
                                      <p:cBhvr additive="base">
                                        <p:cTn id="6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ing Tips</a:t>
            </a: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just one strategy at a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the activity yourself, as you explain to students how to use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the strategy first as a whole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udent make use of the strategy during in-class reading time, move around the room to observe, facilitate, an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ing Strategies</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ing kids how smart readers thin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activities that prepare students to rea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helping students construct, process, and question ideas as they rea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uiding student to reflect on, integrate, and share the ideas when they’re finish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vocabul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y Think Aloud?</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ch of what happens with texts in classrooms gives students the mistaken impression that reading comprehension happens by magic.  To begin to build a repertoire of activities for reading comprehension, students need to have the reading process demystified.  They need to see what happens inside the mind of a proficient reader, someone who is willing to make the invisible visible by externalizing his or her mental activit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Calibri"/>
              </a:rPr>
              <a:t> </a:t>
            </a:r>
            <a:r>
              <a:rPr b="0" lang="en-US" sz="1600" spc="-1" strike="noStrike">
                <a:solidFill>
                  <a:srgbClr val="000000"/>
                </a:solidFill>
                <a:latin typeface="Times New Roman"/>
                <a:ea typeface="Times New Roman"/>
              </a:rPr>
              <a:t>Schoenbach, Greenleaf, Cziko and Hurwitz, </a:t>
            </a:r>
            <a:r>
              <a:rPr b="0" i="1" lang="en-US" sz="1600" spc="-1" strike="noStrike">
                <a:solidFill>
                  <a:srgbClr val="000000"/>
                </a:solidFill>
                <a:latin typeface="Times New Roman"/>
                <a:ea typeface="Times New Roman"/>
              </a:rPr>
              <a:t>Reading for Understanding</a:t>
            </a:r>
            <a:r>
              <a:rPr b="0" lang="en-US" sz="1600" spc="-1" strike="noStrike">
                <a:solidFill>
                  <a:srgbClr val="000000"/>
                </a:solidFill>
                <a:latin typeface="Times New Roman"/>
                <a:ea typeface="Times New Roman"/>
              </a:rPr>
              <a:t>, p. 21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Aoccdrnig to rscheearch at an Elingsh uinervtisy, it deosn’t mttaer waht oredr the ltteers in a wrod are, the olny ipormetnt tihng is taht the frist and lsat ltteer is at the rghit pclae. The rset can be a toatl mses and you can sitll raed it wouthit a porbelm. Tihs is bcuseae we do not raed ervey lteter by it slef but the wrod as a wloh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m </a:t>
            </a:r>
            <a:r>
              <a:rPr b="0" i="1" lang="en-US" sz="3600" spc="-1" strike="noStrike">
                <a:solidFill>
                  <a:srgbClr val="000000"/>
                </a:solidFill>
                <a:latin typeface="Times New Roman"/>
              </a:rPr>
              <a:t>Deeper Reading</a:t>
            </a:r>
            <a:r>
              <a:rPr b="0" lang="en-US" sz="3600" spc="-1" strike="noStrike">
                <a:solidFill>
                  <a:srgbClr val="000000"/>
                </a:solidFill>
                <a:latin typeface="Times New Roman"/>
              </a:rPr>
              <a:t> by Kelly Gallagher</a:t>
            </a:r>
            <a:endParaRPr b="0" lang="en-US" sz="36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600" spc="-1" strike="noStrike">
                <a:solidFill>
                  <a:srgbClr val="000000"/>
                </a:solidFill>
                <a:latin typeface="Times New Roman"/>
                <a:ea typeface="宋体"/>
              </a:rPr>
              <a:t>There are tork gooboos of puzballs, including laplies, mushos, and fushos.  Even if you bartle the puzballs that tovo inny and onny of the pern, they do not grunto any lipples.  In order to geemee a puzball that gruntos lipples, you should bartle the fusho who has rarckled the parshtootoos after her humply flufl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04920"/>
            <a:ext cx="8229600" cy="6248160"/>
          </a:xfrm>
          <a:prstGeom prst="rect">
            <a:avLst/>
          </a:prstGeom>
          <a:noFill/>
          <a:ln w="0">
            <a:noFill/>
          </a:ln>
        </p:spPr>
        <p:txBody>
          <a:bodyPr anchor="t">
            <a:normAutofit fontScale="96000"/>
          </a:bodyPr>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ow many gooboos of puzballs are there?</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There are tork gooboos of puzball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What are laplies, mushos, and fusho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Laplies, mushos, and fushos are tork gooboos of puzballs.</a:t>
            </a:r>
            <a:endParaRPr b="0" lang="en-US" sz="3200" spc="-1" strike="noStrike">
              <a:solidFill>
                <a:srgbClr val="000000"/>
              </a:solidFill>
              <a:latin typeface="Calibri"/>
            </a:endParaRPr>
          </a:p>
          <a:p>
            <a:pPr marL="585000" indent="-58500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ven if you bartle the puzballs that tovo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ny and onny of the pern, they will not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what?</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They will not grunto any lipples.</a:t>
            </a:r>
            <a:endParaRPr b="0" lang="en-US" sz="3200" spc="-1" strike="noStrike">
              <a:solidFill>
                <a:srgbClr val="000000"/>
              </a:solidFill>
              <a:latin typeface="Calibri"/>
            </a:endParaRPr>
          </a:p>
          <a:p>
            <a:pPr marL="585000" indent="-585000">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ow can you geemee a puzball that gruntos lipple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You should bartle the fusho who has rarckled her parshtootoos after her humply flufl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8">
                                            <p:txEl>
                                              <p:pRg st="1" end="1"/>
                                            </p:txEl>
                                          </p:spTgt>
                                        </p:tgtEl>
                                        <p:attrNameLst>
                                          <p:attrName>style.visibility</p:attrName>
                                        </p:attrNameLst>
                                      </p:cBhvr>
                                      <p:to>
                                        <p:strVal val="visible"/>
                                      </p:to>
                                    </p:set>
                                    <p:anim calcmode="lin" valueType="num">
                                      <p:cBhvr additive="base">
                                        <p:cTn id="15"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8">
                                            <p:txEl>
                                              <p:pRg st="3" end="3"/>
                                            </p:txEl>
                                          </p:spTgt>
                                        </p:tgtEl>
                                        <p:attrNameLst>
                                          <p:attrName>style.visibility</p:attrName>
                                        </p:attrNameLst>
                                      </p:cBhvr>
                                      <p:to>
                                        <p:strVal val="visible"/>
                                      </p:to>
                                    </p:set>
                                    <p:anim calcmode="lin" valueType="num">
                                      <p:cBhvr additive="base">
                                        <p:cTn id="21"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8">
                                            <p:txEl>
                                              <p:pRg st="7" end="7"/>
                                            </p:txEl>
                                          </p:spTgt>
                                        </p:tgtEl>
                                        <p:attrNameLst>
                                          <p:attrName>style.visibility</p:attrName>
                                        </p:attrNameLst>
                                      </p:cBhvr>
                                      <p:to>
                                        <p:strVal val="visible"/>
                                      </p:to>
                                    </p:set>
                                    <p:anim calcmode="lin" valueType="num">
                                      <p:cBhvr additive="base">
                                        <p:cTn id="33"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0">
                                            <p:txEl>
                                              <p:pRg st="1" end="1"/>
                                            </p:txEl>
                                          </p:spTgt>
                                        </p:tgtEl>
                                        <p:attrNameLst>
                                          <p:attrName>style.visibility</p:attrName>
                                        </p:attrNameLst>
                                      </p:cBhvr>
                                      <p:to>
                                        <p:strVal val="visible"/>
                                      </p:to>
                                    </p:set>
                                    <p:anim calcmode="lin" valueType="num">
                                      <p:cBhvr additive="base">
                                        <p:cTn id="41"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a:t>
            </a:r>
            <a:r>
              <a:rPr b="0" i="1" lang="en-US" sz="4400" spc="-1" strike="noStrike">
                <a:solidFill>
                  <a:srgbClr val="000000"/>
                </a:solidFill>
                <a:latin typeface="Times New Roman"/>
                <a:ea typeface="Times New Roman"/>
              </a:rPr>
              <a:t>Tis the good reader that makes the good book.</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lph Waldo Em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Every text is a lazy machine asking the reader to do some of its work.</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mberto Ec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487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Reading a book is like rewriting it for yourself . . . You bring to a novel, anything you read, </a:t>
            </a:r>
            <a:br>
              <a:rPr sz="4400"/>
            </a:br>
            <a:r>
              <a:rPr b="0" i="1" lang="en-US" sz="4400" spc="-1" strike="noStrike">
                <a:solidFill>
                  <a:srgbClr val="000000"/>
                </a:solidFill>
                <a:latin typeface="Times New Roman"/>
                <a:ea typeface="Times New Roman"/>
              </a:rPr>
              <a:t>all your experience of the world.  You bring your history and you read it in your own terms.</a:t>
            </a: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gela Car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20:32:36Z</dcterms:created>
  <dc:creator>hmoorm</dc:creator>
  <dc:description/>
  <dc:language>en-US</dc:language>
  <cp:lastModifiedBy>jadams82</cp:lastModifiedBy>
  <dcterms:modified xsi:type="dcterms:W3CDTF">2011-06-10T17:37:27Z</dcterms:modified>
  <cp:revision>48</cp:revision>
  <dc:subject/>
  <dc:title>Agenda for Monday, Sept. 29</dc:title>
</cp:coreProperties>
</file>